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2F2-6BDE-4D6A-AFC2-557A9248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1EF-F579-47C6-B359-49E4065B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8EF-6DAF-48BC-8320-9D672F8E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A3A-46D9-414E-9680-CF3ADBF9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C7AB-EA96-4A6D-85B7-12AFB6B2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B1FD-B9BC-425A-A035-9BE867C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E51-A455-4857-AA47-86AA2E46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1FCE-2583-486E-BD68-BF738DA5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601-233D-4820-B248-CB5D371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192F-1A60-41A4-9C72-D33D31FF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859-A667-4717-827C-72E401E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D7C-4F34-4421-AE76-083046E5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96F9-A685-4530-B6BA-A7AE9B84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07B-BE82-44AA-9A0D-150E899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B6CB-4A75-4CD2-B9A3-A5AD1652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8160-1C50-4858-9444-F574C405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AF7D-CC13-46B5-98D9-7A1539A3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11F-D169-44C8-BFC1-1283B0A6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C6B-5DDC-4577-801A-355B3F9D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27D-B6F8-4353-8713-B4FF7EED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BB4-BE32-4684-94A7-70121DF2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8D3-5165-412D-8200-AED05D8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33B-E258-4E88-8916-2C97AB1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809-E21A-4E1C-B8AB-E035A741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6D6F-E787-4EED-BA37-C3C404505A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953F-987D-4DD7-AE11-5893F47666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S-522 (Modelling and Simul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3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 Modelling of TCP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h Asaduzzam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i Hasnain Pa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verAp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2205000"/>
          <a:ext cx="5972040" cy="38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05000"/>
                    <a:ext cx="597204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al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6740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2421000"/>
            <a:ext cx="2160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otal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565360"/>
            <a:ext cx="576000" cy="792360"/>
          </a:xfrm>
          <a:prstGeom prst="foldedCorner">
            <a:avLst>
              <a:gd name="adj" fmla="val 223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3933720"/>
            <a:ext cx="216000" cy="14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71640" y="3716280"/>
            <a:ext cx="1223640" cy="503280"/>
            <a:chOff x="971640" y="3716280"/>
            <a:chExt cx="1223640" cy="503280"/>
          </a:xfrm>
        </p:grpSpPr>
        <p:grpSp>
          <p:nvGrpSpPr>
            <p:cNvPr id="106" name=""/>
            <p:cNvGrpSpPr/>
            <p:nvPr/>
          </p:nvGrpSpPr>
          <p:grpSpPr>
            <a:xfrm>
              <a:off x="971640" y="3716280"/>
              <a:ext cx="1223640" cy="503280"/>
              <a:chOff x="971640" y="3716280"/>
              <a:chExt cx="1223640" cy="503280"/>
            </a:xfrm>
          </p:grpSpPr>
          <p:sp>
            <p:nvSpPr>
              <p:cNvPr id="107" name=""/>
              <p:cNvSpPr/>
              <p:nvPr/>
            </p:nvSpPr>
            <p:spPr>
              <a:xfrm>
                <a:off x="971640" y="371628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71640" y="42195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95280" y="371628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052720" y="378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8360" y="378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4360" y="3429000"/>
            <a:ext cx="215640" cy="14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933720"/>
            <a:ext cx="215640" cy="14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645000"/>
            <a:ext cx="181080" cy="431640"/>
          </a:xfrm>
          <a:custGeom>
            <a:avLst/>
            <a:gdLst/>
            <a:ahLst/>
            <a:rect l="l" t="t" r="r" b="b"/>
            <a:pathLst>
              <a:path w="159" h="431">
                <a:moveTo>
                  <a:pt x="23" y="0"/>
                </a:moveTo>
                <a:cubicBezTo>
                  <a:pt x="11" y="147"/>
                  <a:pt x="0" y="295"/>
                  <a:pt x="23" y="363"/>
                </a:cubicBezTo>
                <a:cubicBezTo>
                  <a:pt x="46" y="431"/>
                  <a:pt x="144" y="408"/>
                  <a:pt x="159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4149720"/>
            <a:ext cx="863280" cy="136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4581360"/>
            <a:ext cx="105912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3921120"/>
            <a:ext cx="167040" cy="587520"/>
          </a:xfrm>
          <a:custGeom>
            <a:avLst/>
            <a:gdLst/>
            <a:ahLst/>
            <a:rect l="l" t="t" r="r" b="b"/>
            <a:pathLst>
              <a:path w="105" h="370">
                <a:moveTo>
                  <a:pt x="0" y="53"/>
                </a:moveTo>
                <a:cubicBezTo>
                  <a:pt x="37" y="26"/>
                  <a:pt x="75" y="0"/>
                  <a:pt x="90" y="53"/>
                </a:cubicBezTo>
                <a:cubicBezTo>
                  <a:pt x="105" y="106"/>
                  <a:pt x="105" y="317"/>
                  <a:pt x="90" y="3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94172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5157720"/>
            <a:ext cx="215640" cy="14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282920" y="4221000"/>
            <a:ext cx="2531160" cy="503280"/>
            <a:chOff x="4282920" y="4221000"/>
            <a:chExt cx="2531160" cy="503280"/>
          </a:xfrm>
        </p:grpSpPr>
        <p:sp>
          <p:nvSpPr>
            <p:cNvPr id="123" name=""/>
            <p:cNvSpPr/>
            <p:nvPr/>
          </p:nvSpPr>
          <p:spPr>
            <a:xfrm>
              <a:off x="4282920" y="4508640"/>
              <a:ext cx="2521080" cy="215640"/>
            </a:xfrm>
            <a:prstGeom prst="rightArrow">
              <a:avLst>
                <a:gd name="adj1" fmla="val 50000"/>
                <a:gd name="adj2" fmla="val 29227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0640" y="422100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ata Channel (C-to-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6360" y="4581360"/>
              <a:ext cx="216000" cy="71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92720" y="4581360"/>
              <a:ext cx="21600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00000" y="4221000"/>
            <a:ext cx="13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4437000"/>
            <a:ext cx="9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CP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cl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04000" y="4149720"/>
            <a:ext cx="1079640" cy="1366920"/>
            <a:chOff x="6804000" y="4149720"/>
            <a:chExt cx="1079640" cy="1366920"/>
          </a:xfrm>
        </p:grpSpPr>
        <p:sp>
          <p:nvSpPr>
            <p:cNvPr id="130" name=""/>
            <p:cNvSpPr/>
            <p:nvPr/>
          </p:nvSpPr>
          <p:spPr>
            <a:xfrm>
              <a:off x="6875640" y="4149720"/>
              <a:ext cx="863640" cy="1366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04000" y="4437000"/>
              <a:ext cx="107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CP Dr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serv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82920" y="4941720"/>
            <a:ext cx="2594160" cy="553320"/>
            <a:chOff x="4282920" y="4941720"/>
            <a:chExt cx="2594160" cy="553320"/>
          </a:xfrm>
        </p:grpSpPr>
        <p:sp>
          <p:nvSpPr>
            <p:cNvPr id="133" name=""/>
            <p:cNvSpPr/>
            <p:nvPr/>
          </p:nvSpPr>
          <p:spPr>
            <a:xfrm rot="10800000">
              <a:off x="4282920" y="4941720"/>
              <a:ext cx="2594160" cy="216000"/>
            </a:xfrm>
            <a:prstGeom prst="rightArrow">
              <a:avLst>
                <a:gd name="adj1" fmla="val 50000"/>
                <a:gd name="adj2" fmla="val 30025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8360" y="5013360"/>
              <a:ext cx="215640" cy="7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000" y="515772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ata Channel (S-to-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427640" y="378936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52880" y="34671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9800" y="58053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59280" y="515772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2492280"/>
            <a:ext cx="1366920" cy="8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720" y="263700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640" y="242100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0" idx="2"/>
            <a:endCxn id="131" idx="3"/>
          </p:cNvCxnSpPr>
          <p:nvPr/>
        </p:nvCxnSpPr>
        <p:spPr>
          <a:xfrm rot="5400000">
            <a:off x="7227360" y="4013280"/>
            <a:ext cx="1492920" cy="181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 level statech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03280" y="1989000"/>
          <a:ext cx="655344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5534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 Ap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1989000"/>
          <a:ext cx="655164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65516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CPDriver (Topleve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03280" y="1989000"/>
          <a:ext cx="66978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66978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CPDriver (componen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82640" y="1925640"/>
          <a:ext cx="758016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1925640"/>
                    <a:ext cx="758016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CPDriver (componen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140360" y="2133720"/>
          <a:ext cx="476856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133720"/>
                    <a:ext cx="476856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68360" y="2133720"/>
          <a:ext cx="4640040" cy="43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133720"/>
                    <a:ext cx="464004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2133720"/>
          <a:ext cx="7775280" cy="37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7528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(alternativ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55640" y="2060640"/>
          <a:ext cx="75596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5596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19:12:29Z</dcterms:created>
  <dc:creator>Shah Asaduzzaman</dc:creator>
  <dc:description/>
  <dc:language>en-US</dc:language>
  <cp:lastModifiedBy>Shah Asaduzzaman</cp:lastModifiedBy>
  <dcterms:modified xsi:type="dcterms:W3CDTF">2003-12-22T17:00:30Z</dcterms:modified>
  <cp:revision>9</cp:revision>
  <dc:subject/>
  <dc:title>CS-522 (Modelling and Simulation)</dc:title>
</cp:coreProperties>
</file>