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16C-F794-4888-9709-0E0303A5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3CD-6FC0-4C51-BBBD-B9F093DC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8CD-4B9A-4AF3-9B9D-5D906F41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C6B-EFF5-4102-8752-7AE650F9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AB1-131A-42A5-ADAF-ED6866F6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2ED-661C-4F1E-A9A5-3CDDDBF0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7C3-8B62-4AF1-9E35-C2F722F3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B48-4F7E-4DC3-98F8-83A987F1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7F2-DE50-4C1D-BA85-55A88B5C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30B-9CE0-4A8E-B058-A5E16C71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F21-4E5F-4AFE-961E-96B747A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E04-42E3-49AD-A251-6DB5AFA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77BF-3C3F-4504-8422-C1DD6181C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1000"/>
            <a:ext cx="2160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565360"/>
            <a:ext cx="576000" cy="792360"/>
          </a:xfrm>
          <a:prstGeom prst="foldedCorner">
            <a:avLst>
              <a:gd name="adj" fmla="val 223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3933720"/>
            <a:ext cx="21600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71640" y="3716280"/>
            <a:ext cx="1223640" cy="503280"/>
            <a:chOff x="971640" y="3716280"/>
            <a:chExt cx="1223640" cy="503280"/>
          </a:xfrm>
        </p:grpSpPr>
        <p:grpSp>
          <p:nvGrpSpPr>
            <p:cNvPr id="45" name=""/>
            <p:cNvGrpSpPr/>
            <p:nvPr/>
          </p:nvGrpSpPr>
          <p:grpSpPr>
            <a:xfrm>
              <a:off x="971640" y="3716280"/>
              <a:ext cx="1223640" cy="503280"/>
              <a:chOff x="971640" y="3716280"/>
              <a:chExt cx="1223640" cy="503280"/>
            </a:xfrm>
          </p:grpSpPr>
          <p:sp>
            <p:nvSpPr>
              <p:cNvPr id="46" name=""/>
              <p:cNvSpPr/>
              <p:nvPr/>
            </p:nvSpPr>
            <p:spPr>
              <a:xfrm>
                <a:off x="971640" y="371628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71640" y="421956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95280" y="371628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2052720" y="378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8360" y="378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84360" y="342900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3933720"/>
            <a:ext cx="2156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3645000"/>
            <a:ext cx="181080" cy="431640"/>
          </a:xfrm>
          <a:custGeom>
            <a:avLst/>
            <a:gdLst/>
            <a:ahLst/>
            <a:rect l="l" t="t" r="r" b="b"/>
            <a:pathLst>
              <a:path w="159" h="431">
                <a:moveTo>
                  <a:pt x="23" y="0"/>
                </a:moveTo>
                <a:cubicBezTo>
                  <a:pt x="11" y="147"/>
                  <a:pt x="0" y="295"/>
                  <a:pt x="23" y="363"/>
                </a:cubicBezTo>
                <a:cubicBezTo>
                  <a:pt x="46" y="431"/>
                  <a:pt x="144" y="408"/>
                  <a:pt x="159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4149720"/>
            <a:ext cx="863280" cy="136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4581360"/>
            <a:ext cx="105912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3921120"/>
            <a:ext cx="167040" cy="587520"/>
          </a:xfrm>
          <a:custGeom>
            <a:avLst/>
            <a:gdLst/>
            <a:ahLst/>
            <a:rect l="l" t="t" r="r" b="b"/>
            <a:pathLst>
              <a:path w="105" h="370">
                <a:moveTo>
                  <a:pt x="0" y="53"/>
                </a:moveTo>
                <a:cubicBezTo>
                  <a:pt x="37" y="26"/>
                  <a:pt x="75" y="0"/>
                  <a:pt x="90" y="53"/>
                </a:cubicBezTo>
                <a:cubicBezTo>
                  <a:pt x="105" y="106"/>
                  <a:pt x="105" y="317"/>
                  <a:pt x="90" y="3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27280" y="494172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515772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82920" y="4221000"/>
            <a:ext cx="2531160" cy="503280"/>
            <a:chOff x="4282920" y="4221000"/>
            <a:chExt cx="2531160" cy="503280"/>
          </a:xfrm>
        </p:grpSpPr>
        <p:sp>
          <p:nvSpPr>
            <p:cNvPr id="62" name=""/>
            <p:cNvSpPr/>
            <p:nvPr/>
          </p:nvSpPr>
          <p:spPr>
            <a:xfrm>
              <a:off x="4282920" y="4508640"/>
              <a:ext cx="2521080" cy="215640"/>
            </a:xfrm>
            <a:prstGeom prst="rightArrow">
              <a:avLst>
                <a:gd name="adj1" fmla="val 50000"/>
                <a:gd name="adj2" fmla="val 29227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0640" y="4221000"/>
              <a:ext cx="23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ata Channel (C-to-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16360" y="4581360"/>
              <a:ext cx="216000" cy="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92720" y="4581360"/>
              <a:ext cx="216000" cy="71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900000" y="4221000"/>
            <a:ext cx="13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4437000"/>
            <a:ext cx="93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CP 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cl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04000" y="4149720"/>
            <a:ext cx="1079640" cy="1366920"/>
            <a:chOff x="6804000" y="4149720"/>
            <a:chExt cx="1079640" cy="1366920"/>
          </a:xfrm>
        </p:grpSpPr>
        <p:sp>
          <p:nvSpPr>
            <p:cNvPr id="69" name=""/>
            <p:cNvSpPr/>
            <p:nvPr/>
          </p:nvSpPr>
          <p:spPr>
            <a:xfrm>
              <a:off x="6875640" y="4149720"/>
              <a:ext cx="863640" cy="1366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04000" y="4437000"/>
              <a:ext cx="107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CP Dr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serve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82920" y="4941720"/>
            <a:ext cx="2594160" cy="553320"/>
            <a:chOff x="4282920" y="4941720"/>
            <a:chExt cx="2594160" cy="553320"/>
          </a:xfrm>
        </p:grpSpPr>
        <p:sp>
          <p:nvSpPr>
            <p:cNvPr id="72" name=""/>
            <p:cNvSpPr/>
            <p:nvPr/>
          </p:nvSpPr>
          <p:spPr>
            <a:xfrm rot="10800000">
              <a:off x="4282920" y="4941720"/>
              <a:ext cx="2594160" cy="216000"/>
            </a:xfrm>
            <a:prstGeom prst="rightArrow">
              <a:avLst>
                <a:gd name="adj1" fmla="val 50000"/>
                <a:gd name="adj2" fmla="val 30025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48360" y="5013360"/>
              <a:ext cx="215640" cy="7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000" y="5157720"/>
              <a:ext cx="23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ata Channel (S-to-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27640" y="378936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52880" y="346716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69800" y="58053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ol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859280" y="515772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80360" y="2492280"/>
            <a:ext cx="1366920" cy="865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720" y="263700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640" y="242100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2"/>
            <a:endCxn id="70" idx="3"/>
          </p:cNvCxnSpPr>
          <p:nvPr/>
        </p:nvCxnSpPr>
        <p:spPr>
          <a:xfrm rot="5400000">
            <a:off x="7228080" y="4013280"/>
            <a:ext cx="1491480" cy="180360"/>
          </a:xfrm>
          <a:prstGeom prst="bentConnector4">
            <a:avLst>
              <a:gd name="adj1" fmla="val 36335"/>
              <a:gd name="adj2" fmla="val -26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73400" y="119700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ple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16:34:32Z</dcterms:created>
  <dc:creator>Shah Asaduzzaman</dc:creator>
  <dc:description/>
  <dc:language>en-US</dc:language>
  <cp:lastModifiedBy>Shah Asaduzzaman</cp:lastModifiedBy>
  <dcterms:modified xsi:type="dcterms:W3CDTF">2003-12-22T22:45:43Z</dcterms:modified>
  <cp:revision>2</cp:revision>
  <dc:subject/>
  <dc:title>Slide 1</dc:title>
</cp:coreProperties>
</file>